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38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6776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002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38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6776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209-F800-423F-A47A-C4A31190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197-00FC-449B-911F-C9E06325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D33-0E53-40B1-9181-97F7D423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B91-E152-4230-804B-E6A14575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01A-7D54-42A1-A90E-03C5439F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21A-C67E-4241-8FBE-62DB56A2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1A5-CCCE-4611-9FB2-1FCB887F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AAA-23DE-429F-8808-54C9F9D6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5C60-52D1-4D50-BB29-4DD6CA0D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CD7-0ABF-462F-86E1-D0C63DAE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0C3-A8A9-401C-84DE-88D7C4BF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838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56776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002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838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56776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FDD-8DC2-44D4-8A66-AB9C0623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3" marL="1568160" indent="-22392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4" marL="2016000" indent="-223920">
              <a:spcBef>
                <a:spcPts val="700"/>
              </a:spcBef>
              <a:buClr>
                <a:srgbClr val="070c1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5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6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1520" y="165240"/>
            <a:ext cx="9194400" cy="6692760"/>
            <a:chOff x="101520" y="165240"/>
            <a:chExt cx="9194400" cy="6692760"/>
          </a:xfrm>
        </p:grpSpPr>
        <p:sp>
          <p:nvSpPr>
            <p:cNvPr id="3" name=""/>
            <p:cNvSpPr/>
            <p:nvPr/>
          </p:nvSpPr>
          <p:spPr>
            <a:xfrm>
              <a:off x="101520" y="165240"/>
              <a:ext cx="623160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73240" y="304920"/>
              <a:ext cx="632160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6250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3120" y="1079640"/>
              <a:ext cx="845280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6553080" y="6553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0c13"/>
                </a:solidFill>
                <a:latin typeface="Arial"/>
                <a:ea typeface="Arial"/>
              </a:rPr>
              <a:t>Copyright © Allyn &amp; Bacon 2009</a:t>
            </a:r>
            <a:endParaRPr b="0" lang="en-US" sz="10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3E77-94DE-4709-9FCA-9CC6ADD2B843}" type="slidenum"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9" name="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0c1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476440" y="38858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4523b"/>
                </a:solidFill>
                <a:latin typeface="Arial"/>
              </a:rPr>
              <a:t>Sociology Now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523b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34523b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34523b"/>
                </a:solidFill>
                <a:latin typeface="Arial"/>
              </a:rPr>
              <a:t> Edition (Brief)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523b"/>
                </a:solidFill>
                <a:latin typeface="Arial"/>
              </a:rPr>
              <a:t>Kimmel/Aronson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24852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70c13"/>
                </a:solidFill>
                <a:latin typeface="Arial"/>
              </a:rPr>
              <a:t>*This multimedia product and its contents are protected under copyright law. The following are prohibited by law: any public performances or display, including transmission of any image over a network; preparation of any derivative work, including the extraction, in whole or in part, of any images; any rental, lease, or lending of the program.</a:t>
            </a:r>
            <a:endParaRPr b="0" lang="en-US" sz="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133720"/>
            <a:ext cx="40766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c13"/>
                </a:solidFill>
                <a:latin typeface="Arial"/>
              </a:rPr>
              <a:t>What is Sociology? </a:t>
            </a:r>
            <a:endParaRPr b="0" lang="en-US" sz="3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990720"/>
            <a:ext cx="685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70c13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4520" y="121932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c13"/>
                </a:solidFill>
                <a:latin typeface="Arial"/>
              </a:rPr>
              <a:t>c h a p t e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0c13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70760" y="2197080"/>
            <a:ext cx="1538280" cy="2298600"/>
          </a:xfrm>
          <a:prstGeom prst="rect">
            <a:avLst/>
          </a:prstGeom>
          <a:ln w="381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68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ere Did Sociology Come From?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6629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lassic Sociological Thinkers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modernism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Auguste Comt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founder of sociolog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al statics and dynamic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Alexis de Tocquevill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Democraci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Karl Marx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The Communist Manifesto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capitalism and worker rebell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ere Did Sociology Come From?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6629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Emile Durkheim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Suicid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Integration and regulat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al </a:t>
            </a: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solidar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mechanical </a:t>
            </a: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 organic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Max Weber 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(VAY-bur)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interpretive and value fre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most significant divis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status </a:t>
            </a: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party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ere Did Sociology Come From?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George Simmel 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(ZIM-mel)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forms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of social interact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individual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discovery and expression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American Sociological Thinkers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Thorstein Veble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e “productive” (workers)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e “pecuniary” (owners)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Lester War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against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ocial Darwinism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al telesis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ere Did Sociology Come From?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6629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George Herbert Mea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e “I” and the “me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generalized other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The “Other” Canon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Mary Wollstonecraf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Margaret Fuller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Frederick Dougla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W.E.B. DuBoi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Charlotte Perkins Gillma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temporary Sociolog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5943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What could sociology contribute to the study of the self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What processes ensure social order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ymbolic Interaction and the Sociology of the Self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development of the self through interactions with other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dramaturgical model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Goffman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backstage and frontstag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temporary Sociolog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6095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tructural Functionalism and Social Order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tability, order and meaning </a:t>
            </a: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(Parsons)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paradigm 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of how society work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manifest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latent 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functions </a:t>
            </a: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(Merton)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. . . “if it exists it serves a purpose and shouldn’t be changed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temporary Sociolog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99840" y="1676160"/>
            <a:ext cx="603252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onflict Theories:  An Alternative Paradigm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e dynamics of society resulted from conflict among different group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conflict theor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temporary Sociolog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8080" y="1152360"/>
            <a:ext cx="5551200" cy="2909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932200" y="3462480"/>
            <a:ext cx="582300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temporary Sociolog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294920"/>
            <a:ext cx="593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Globalization and Multiculturalism:  New Lenses, New Issues</a:t>
            </a: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globalization </a:t>
            </a: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(macro)</a:t>
            </a: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interconnection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multiculturalism </a:t>
            </a: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(micro) – </a:t>
            </a: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understanding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macrolevel analysi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microlevel analysi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Globalization and Multiculturalism:  Interrelated Force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forces that hold us together and that drive us apart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Global Tension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McDonaldization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Ritzer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temporary Sociolog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ociology and Modernism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modernism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religion to scienc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mechanical to organic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feudal to capitalis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postmodernism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ociology and the Future, Sociology and You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73800" y="2476440"/>
            <a:ext cx="304560" cy="1295640"/>
          </a:xfrm>
          <a:custGeom>
            <a:avLst/>
            <a:gdLst>
              <a:gd name="textAreaLeft" fmla="*/ 0 w 304560"/>
              <a:gd name="textAreaRight" fmla="*/ 109800 w 3045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46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2489040"/>
            <a:ext cx="1523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46eb2"/>
                </a:solidFill>
                <a:latin typeface="Arial"/>
              </a:rPr>
              <a:t>no society ever passes from one stage fully into the next</a:t>
            </a:r>
            <a:endParaRPr b="0" lang="en-US" sz="1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ociology As a Way of Seeing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tudy of human behavior in socie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attempts to answer basic question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nature of ident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relationship of individual to socie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relationships between individual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ociological imagination </a:t>
            </a: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(Mills)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ociology As a Way of Seeing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6248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Beyond Either/Or:  Seeing Sociologically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Is society getting better or worse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Is the glass half full or half empty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ologists see </a:t>
            </a:r>
            <a:r>
              <a:rPr b="1" i="1" lang="en-US" sz="2400" spc="-1" strike="noStrike">
                <a:solidFill>
                  <a:srgbClr val="070c13"/>
                </a:solidFill>
                <a:latin typeface="Arial"/>
              </a:rPr>
              <a:t>both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sides at onc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both/and” as opposed to “either/or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ociology As a Way of Seeing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6248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Making Connections:  Sociological Dynamics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integration and disintegrat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al </a:t>
            </a: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and breakdow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ociological Understanding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etal changes over tim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cross-country comparison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oing Sociolog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eory </a:t>
            </a: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perspectiv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ology of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Art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Crime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Delinquency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Drug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Gender, etc.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al complexity of problem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parts” make up the entire “picture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oing Sociolog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ociology and Science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empirical data vs. human spiri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Getting Beyond “Common Sense”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human behavior results from </a:t>
            </a: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both 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nature and nurtur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humans adapt to social context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743200"/>
            <a:ext cx="6933960" cy="762120"/>
          </a:xfrm>
          <a:prstGeom prst="cube">
            <a:avLst>
              <a:gd name="adj" fmla="val 14583"/>
            </a:avLst>
          </a:prstGeom>
          <a:solidFill>
            <a:srgbClr val="cccc00">
              <a:alpha val="45000"/>
            </a:srgbClr>
          </a:solidFill>
          <a:ln w="3240">
            <a:solidFill>
              <a:srgbClr val="070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When the object of study is intelligent and aware, 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you need different techniques and different propositions”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ere Did Sociology Come From?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6629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Before “Sociology”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e Age of Reason”; “Enlightenment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al contract”/individuality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Locke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e “general will”/community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Rousseau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Declaration of Independence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Jefferson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255276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446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962520"/>
            <a:ext cx="76320" cy="2286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 flipV="1" rot="10800000">
            <a:off x="2133000" y="2970720"/>
            <a:ext cx="367200" cy="1067400"/>
          </a:xfrm>
          <a:prstGeom prst="curvedConnector5">
            <a:avLst>
              <a:gd name="adj1" fmla="val 162315"/>
              <a:gd name="adj2" fmla="val 50000"/>
              <a:gd name="adj3" fmla="val 162315"/>
            </a:avLst>
          </a:prstGeom>
          <a:ln w="28440">
            <a:solidFill>
              <a:srgbClr val="446eb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ere Did Sociology Come From?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The Invention of Sociology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The nature of </a:t>
            </a:r>
            <a:r>
              <a:rPr b="0" i="1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commun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The nature of </a:t>
            </a:r>
            <a:r>
              <a:rPr b="0" i="1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governmen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The nature of </a:t>
            </a:r>
            <a:r>
              <a:rPr b="0" i="1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the econom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The meaning of </a:t>
            </a:r>
            <a:r>
              <a:rPr b="0" i="1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individualism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The rise of </a:t>
            </a:r>
            <a:r>
              <a:rPr b="0" i="1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secularism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The nature and direction of </a:t>
            </a:r>
            <a:r>
              <a:rPr b="0" i="1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chang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ere Did Sociology Come From?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62040" y="1755720"/>
            <a:ext cx="601812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3:21:37Z</dcterms:created>
  <dc:creator/>
  <dc:description/>
  <cp:keywords/>
  <dc:language>en-US</dc:language>
  <cp:lastModifiedBy>Pearson Inc.</cp:lastModifiedBy>
  <cp:lastPrinted>2009-04-22T19:24:48Z</cp:lastPrinted>
  <dcterms:modified xsi:type="dcterms:W3CDTF">2008-07-15T19:43:14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